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D639-E769-4C78-8734-247ECD0A6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AEB8-8BA0-4769-84E9-99F459923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F807-1B22-4357-96EF-931360DBA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9BB6-D3CE-4257-A40F-8BC413DAC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255E-813F-4752-AE84-ED9F251C5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3D1A-1D85-42DA-A92E-51A464783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5413-A6EB-4CD6-BBFC-C08A81443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DD40-3B71-4EB2-8B0A-E6474DE1A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E53D-FAED-438A-95E2-2D321C1FF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DB19-C09D-47EB-B537-579E0F62A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16C7-8C4A-4657-9783-7F9E5A349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90EF-A9E4-4FAD-86A2-C0BF74036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A1C3-9BDF-4A65-AB5D-7847CEBF6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9F3D-F162-4E20-A4B3-EEA604960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B8D8-C8EE-42A6-AFC9-438FF8B9E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47A6-251F-4406-A0C0-808D310A0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41C9-A3FD-4568-890C-87996440E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B1F-8B56-4792-96C3-2F498954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CAAB-C280-4F4A-A927-1575E23E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C410-3058-4D46-A156-BD0D037F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B60F-5216-443C-B40C-64F0F36E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59B8-A90C-4085-8CE1-96EB9EF4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A039-7AAD-468C-8339-98587C9A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76E3-15BF-4864-B8BA-261D6853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8FD1-DB17-426D-8886-9F86CCEF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2E9E-96E8-4F2A-A896-7DE9C74B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44EE-D934-4573-B2F1-53B9B900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0816-4E7F-46F4-8529-60D28B10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E54-DB6F-4A07-8F6A-1C299260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62A6-A68F-4470-A2A3-B972B4B6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4A6D-B560-41EC-91D9-2917552E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3E07-9C59-476B-AB8D-75E93BFF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992C-6801-4447-A11A-933B0F88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A8AD-22B0-4186-B8B1-CAFDC74E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83DF7-91C7-4E07-853F-947B20C1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E7DD0-8791-4980-962F-83A4F2CC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47903-1AA4-4971-A92C-8F922052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BE1E3-442E-49F1-938C-FCECD8B8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DFAFF-1CBB-4716-B9CE-F3E4FE71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E548-4975-4571-A8F1-B9C4E930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F1749-39F7-4195-AC94-469AC155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40D7E-F617-46E4-B162-A2F1EC13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B1001-7219-4B73-AC68-7E535994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8BEFF-1F8A-41A4-A686-0CE8B201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3117B-9F70-4E49-B4B5-141BB1D2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3A903-ED4C-43FA-ABBC-6DF2DB9B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97E94-9ACA-415A-B54E-0FEC9C4B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B090E-913F-44EE-ABFA-33ADACDF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7BEB4-49AA-4833-8714-138D0BFF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EE50D-2E6E-4143-ABEF-959E426A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AF9C-E4A3-46B9-8D05-D084C0B9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AB8DA-0580-44E3-AED8-ACB12A65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76489-E617-48B4-811F-E5E8495E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1BABA-FCE6-4271-9A05-8A63AE88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940B3-FBE0-406A-98F5-CBB181F0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E54B3-ABD2-4680-8E46-295BE511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AACF7-6D56-4828-B06B-CAED14D6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37EE1-02FE-4F04-938B-71BC960F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A0BE7-FD8B-4BAF-9637-FA1B2B55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28E3B-CAE3-49D6-AC55-BFF500C1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095C-06C4-47B1-85D8-0CF5F5AF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D2B-C539-43F9-8EE3-2F72E762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601-9CF8-492E-9CCF-C675311E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BEA-0715-4E4D-929D-F7B7A0BF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CDA6-208D-4D36-8DCF-F29F5FD8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DF2A-5987-4941-A102-C3D4DD143DE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F088-36E0-41A4-AD8E-D237FED359A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8E40-7B74-4D60-9F0A-39FA51D8BA5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FEF3-B9D0-4E56-88F5-241EDF6C9EE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0280" y="1371600"/>
            <a:ext cx="7912080" cy="1962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436760" y="4038480"/>
            <a:ext cx="66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ACES – UNITE 7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684360" y="213372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:  Où  / rest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"/>
          <p:cNvSpPr/>
          <p:nvPr/>
        </p:nvSpPr>
        <p:spPr>
          <a:xfrm>
            <a:off x="1332000" y="2852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Où est-ce que tu es resté (e)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1116000" y="43657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:  Je  _______________ à ……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684360" y="213372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:  Combien de temps  / rest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1332000" y="285264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mbien de temps est-ce que tu es resté (e)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2"/>
          <p:cNvSpPr/>
          <p:nvPr/>
        </p:nvSpPr>
        <p:spPr>
          <a:xfrm>
            <a:off x="1116000" y="4365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:  Je  _______________  trois jours/ une semaine/ un mo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684360" y="213372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:  Que/ visit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1332000" y="2852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Qu’est-ce que tu as visité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1116000" y="43657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:  J’   _______________  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684360" y="213372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:  Sortir/ souvent le soi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1"/>
          <p:cNvSpPr/>
          <p:nvPr/>
        </p:nvSpPr>
        <p:spPr>
          <a:xfrm>
            <a:off x="1332000" y="285264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st-ce que tu es sorti (e) souvent le soir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1116000" y="43657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:  Je  _______________  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684360" y="213372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:  Que/ achet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"/>
          <p:cNvSpPr/>
          <p:nvPr/>
        </p:nvSpPr>
        <p:spPr>
          <a:xfrm>
            <a:off x="1332000" y="2852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Qu’est-ce que tu as acheté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1116000" y="43657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:  J’  _______________  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684360" y="213372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:  Quand/ rentr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1"/>
          <p:cNvSpPr/>
          <p:nvPr/>
        </p:nvSpPr>
        <p:spPr>
          <a:xfrm>
            <a:off x="1332000" y="2852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Quand est-ce que tu es rentré(e)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1116000" y="4365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:  Je  _______________  hier, la semaine dernière, etc…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611280" y="22050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nger de rô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611280" y="2205000"/>
            <a:ext cx="799308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Vous rentrez de vacances et vous téléphonez à votre ami pour lui raconter vos vac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â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aconter vos vac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Votre a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oser des questions – répondre aux questions en utilisant le passé compos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611280" y="2205000"/>
            <a:ext cx="799308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 bonne méthod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tention : est-ce un verbe avec être ou avoir au passé compos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ur poser les questions, utiliser “ est-ce- que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611280" y="2205000"/>
            <a:ext cx="7993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è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ù / all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 : Où est-ce que tu es allé (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: Je suis allé (e) à …….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611280" y="2205000"/>
            <a:ext cx="799308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us avez comp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llons-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611280" y="2205000"/>
            <a:ext cx="79930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 . Où / all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 : Je ………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8"/>
          <p:cNvSpPr/>
          <p:nvPr/>
        </p:nvSpPr>
        <p:spPr>
          <a:xfrm>
            <a:off x="684360" y="213372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:  Avec qui/ parti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1332000" y="285264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vec qui est-ce que tu es parti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1116000" y="43657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:  Je  _______________ ave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8"/>
          <p:cNvSpPr/>
          <p:nvPr/>
        </p:nvSpPr>
        <p:spPr>
          <a:xfrm>
            <a:off x="684360" y="213372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:  Comment / voyag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"/>
          <p:cNvSpPr/>
          <p:nvPr/>
        </p:nvSpPr>
        <p:spPr>
          <a:xfrm>
            <a:off x="1332000" y="2852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mmentest-ce que tu as voyagé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1116000" y="4365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:  J’  _______________ en ……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684360" y="213372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:  à quelle heure / arriv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1"/>
          <p:cNvSpPr/>
          <p:nvPr/>
        </p:nvSpPr>
        <p:spPr>
          <a:xfrm>
            <a:off x="1332000" y="285264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À quelle heure est-ce que tu es arrivé (e)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1116000" y="43657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:  Je  _______________ à ……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21:12:35Z</dcterms:created>
  <dc:creator>Mr. Smith</dc:creator>
  <dc:description/>
  <dc:language>en-US</dc:language>
  <cp:lastModifiedBy>Viviane Grebert</cp:lastModifiedBy>
  <dcterms:modified xsi:type="dcterms:W3CDTF">2012-01-07T21:21:10Z</dcterms:modified>
  <cp:revision>90</cp:revision>
  <dc:subject/>
  <dc:title>La Touraine</dc:title>
</cp:coreProperties>
</file>